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F146B5-FAFF-421E-9E06-8E963008340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BF0A22-9EBF-4136-AAAB-E5C906FAA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373578-76E1-4919-8986-754CB92CC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C85EBA-BD78-4D0C-832E-E2939F8CB35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C52AD2-CDD0-49A7-A3B1-1F9E00037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92783D-E5F9-413E-9977-C84B3BE2B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834508-6C11-4527-970E-3BD7588DD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8FAE15-14E3-4336-9E7D-1B6682A33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1324A-A513-431F-9932-F5A5AEE58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60716C-4C4E-4223-AD81-265D8927D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B01BFD-5F64-45DD-B1DE-6D75EA924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891850-3C63-42C8-81F6-D6356CBF3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>
              <a:gd name="textAreaLeft" fmla="*/ 0 w 9156960"/>
              <a:gd name="textAreaRight" fmla="*/ 9156960 w 915696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403F3-DFEE-4447-B97E-BC6A3872D925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5600"/>
                  <a:gd name="textAreaBottom" fmla="*/ 346320 h 34560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000"/>
                  <a:gd name="textAreaBottom" fmla="*/ 360720 h 36000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808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      </a:t>
            </a:r>
            <a:r>
              <a:rPr b="1" lang="zh-CN" sz="4000" spc="-1" strike="noStrike">
                <a:solidFill>
                  <a:srgbClr val="ff0066"/>
                </a:solidFill>
                <a:latin typeface="Verdana"/>
                <a:ea typeface="宋体"/>
              </a:rPr>
              <a:t>第九节  </a:t>
            </a:r>
            <a:br>
              <a:rPr sz="4000"/>
            </a:br>
            <a:r>
              <a:rPr b="1" lang="zh-CN" sz="4000" spc="-1" strike="noStrike">
                <a:solidFill>
                  <a:srgbClr val="ff0066"/>
                </a:solidFill>
                <a:latin typeface="Verdana"/>
                <a:ea typeface="宋体"/>
              </a:rPr>
              <a:t>其他疾病的康复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标题 1"/>
          <p:cNvSpPr/>
          <p:nvPr/>
        </p:nvSpPr>
        <p:spPr>
          <a:xfrm>
            <a:off x="2484360" y="5013360"/>
            <a:ext cx="518184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Verdana"/>
                <a:ea typeface="宋体"/>
              </a:rPr>
              <a:t>第二节   骨质疏松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．椎体压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椎体骨折多见于绝经后骨质疏松，可引起身长缩短、驼背，多在疼痛后出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．骨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这是退行性骨质疏松症最常见和最严重的并发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．呼吸功能下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胸、腰椎压缩性骨折，脊椎后弯，胸廓畸形，可使肺活量和最大换气量显著减少，患者往往可出现胸闷、气短、呼吸困难等症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主要功能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一）疼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二）关节活动范围受限，腰背肌活动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三）站立与行走受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四）日常生活活动或职业活动能力受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五）心理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康复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一）危险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二）健康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日常饮食结构；运动及体力活动；有无腰痛及疼痛的性质；有无骨折，既往有无长期服用某些药物的情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康复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2124000" y="1341000"/>
            <a:ext cx="5780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（一）危险因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年龄、性别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2.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遗传、家族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3.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内分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4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活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5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药物因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6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营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康复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（一）康复护理原则及目标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1.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康复护理原则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2.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康复护理目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（二）康复护理方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一）康复护理原则及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．康复护理原则  减轻或消除患者的焦虑，减轻疼痛，做好疾病的预防工作，积极对症处理，降低骨折的发生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强调三级预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降低骨折的发生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．康复护理目标   防治骨折；减少并发症，降低病死率；提高康复水平；改善生存质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7720" y="764640"/>
            <a:ext cx="8077320" cy="10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级预防</a:t>
            </a:r>
            <a:br>
              <a:rPr sz="24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一级预防</a:t>
            </a:r>
            <a:r>
              <a:rPr b="0" lang="en-US" sz="2400" spc="-1" strike="noStrike">
                <a:solidFill>
                  <a:srgbClr val="1d1496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从青少年开始，注意合理的饮食，适当的体育锻炼，养成健康的生活方式，</a:t>
            </a:r>
            <a:r>
              <a:rPr b="0" lang="en-US" sz="2400" spc="-1" strike="noStrike">
                <a:solidFill>
                  <a:srgbClr val="1d1496"/>
                </a:solidFill>
                <a:latin typeface="Arial"/>
                <a:ea typeface="宋体"/>
              </a:rPr>
              <a:t>WHO</a:t>
            </a: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指出钙剂是骨质疏松症的膳食补充剂，补钙是预防骨质疏松症的基本措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二级预防</a:t>
            </a:r>
            <a:r>
              <a:rPr b="0" lang="en-US" sz="2400" spc="-1" strike="noStrike">
                <a:solidFill>
                  <a:srgbClr val="1d1496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对绝经后的妇女，应及早地采取对策，积极防治与骨质疏松症有关的疾病，如糖尿病、甲状腺功能亢进症、慢性肾炎、甲状旁腺功能亢进症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三级预防</a:t>
            </a:r>
            <a:r>
              <a:rPr b="0" lang="en-US" sz="2400" spc="-1" strike="noStrike">
                <a:solidFill>
                  <a:srgbClr val="1d1496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对已患有骨质疏松症的患者，应预防不恰当的用力和跌倒，对骨折者要及时进行处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康复护理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疼痛的康复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疼痛是原发性骨质疏松症最常见的症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鼓励患者参加户外的活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活动可以改善人体骨骼的强度，有助于承受较大的外力作用，可以预防骨折，减轻疼痛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康复护理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安全预防康复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预防骨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防止跌倒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跌倒是引起骨折的最常见原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安全预防教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629080" y="1774800"/>
            <a:ext cx="42480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概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主要功能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康复护理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康复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康复护理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280"/>
            <a:chOff x="1819440" y="2219400"/>
            <a:chExt cx="688320" cy="59328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12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000"/>
            </a:xfrm>
            <a:prstGeom prst="hexagon">
              <a:avLst>
                <a:gd name="adj" fmla="val 29246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03240" y="3749760"/>
            <a:ext cx="687240" cy="593280"/>
            <a:chOff x="1803240" y="3749760"/>
            <a:chExt cx="687240" cy="593280"/>
          </a:xfrm>
        </p:grpSpPr>
        <p:sp>
          <p:nvSpPr>
            <p:cNvPr id="116" name="AutoShape 12"/>
            <p:cNvSpPr/>
            <p:nvPr/>
          </p:nvSpPr>
          <p:spPr>
            <a:xfrm>
              <a:off x="1808640" y="375948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43200" y="3784680"/>
              <a:ext cx="599400" cy="513000"/>
            </a:xfrm>
            <a:prstGeom prst="hexagon">
              <a:avLst>
                <a:gd name="adj" fmla="val 29211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AutoShape 16"/>
          <p:cNvSpPr/>
          <p:nvPr/>
        </p:nvSpPr>
        <p:spPr>
          <a:xfrm>
            <a:off x="1803240" y="451152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Line 21"/>
          <p:cNvSpPr/>
          <p:nvPr/>
        </p:nvSpPr>
        <p:spPr>
          <a:xfrm>
            <a:off x="2629080" y="4941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AutoShape 16"/>
          <p:cNvSpPr/>
          <p:nvPr/>
        </p:nvSpPr>
        <p:spPr>
          <a:xfrm>
            <a:off x="1763640" y="5302080"/>
            <a:ext cx="719280" cy="665280"/>
          </a:xfrm>
          <a:prstGeom prst="hexagon">
            <a:avLst>
              <a:gd name="adj" fmla="val 27029"/>
              <a:gd name="vf" fmla="val 115470"/>
            </a:avLst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5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Line 21"/>
          <p:cNvSpPr/>
          <p:nvPr/>
        </p:nvSpPr>
        <p:spPr>
          <a:xfrm>
            <a:off x="2844720" y="58784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620640"/>
            <a:ext cx="8077320" cy="24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2.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安全预防康复护理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防止跌倒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防止跌倒的方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①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多作增强下肢肌力的练习，指导患者进行脊椎灵活性练习和增强平衡协调性的练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②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增强平稳协调性练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③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按预防跌倒风险评估，做好预防跌倒护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764640"/>
            <a:ext cx="8077320" cy="10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（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）安全预防教育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①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日常生活中正确的姿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②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适当的使用护理自助具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③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家庭环境的适当改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④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正确的防止跌倒方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7720" y="764640"/>
            <a:ext cx="8077320" cy="10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康复护理方法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3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运动康复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）骨质疏松症患者进行运动疗法，是最有效和最基本的方法。应注意合理的运动量，运动强度以低、中等强度为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）根据个体情况，制订出合适强度和时间的训练方案，选择合适的运动方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）有氧运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755280" y="620280"/>
            <a:ext cx="8077320" cy="20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康复护理方法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4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良好生活习惯及合理饮食的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）改变生活方式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饮食需均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）选择合适的娱乐活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764640"/>
            <a:ext cx="8077320" cy="10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康复护理方法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5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. ADL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康复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日常生活能力训练项目包括：大便控制、小便控制、修饰、如厕、进餐、转移（床←→椅）、活动（步行，在家庭及其周围社区）、穿衣、上下楼梯、洗澡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691920"/>
            <a:ext cx="8077320" cy="17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康复护理方法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6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理疗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理疗对骨质疏松症引起的疼痛、麻木和骨折，有一定疗效。常用方法有蜡疗、红外线、磁疗、直流电离子导入、超短波、微波、超声波、低中频电疗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康复护理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7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心理康复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患者易出现焦虑，紧张，郁闷等心理反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正确引导，给患者讲解疾病相关的知识，指导其预防与治疗的方法。减轻患者思想负担，增强信心，积极配合治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康复护理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8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继发骨折的康复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若患者有脊柱压缩性骨折，静卧期间可进行床上维持和强化肌力训练，主要进行腰背肌、臀肌、腹肌的等长运动训练，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3~4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周后逐渐进行坐位、站立位的上述肌肉肌力和耐力训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7720" y="764640"/>
            <a:ext cx="8077320" cy="10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五、康复护理指导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一）用药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二）饮食调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三）保持正确姿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四）安全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自测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一、选择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 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．骨质疏松的最终结局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A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．骨折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	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     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B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．疼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C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．行走困难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	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     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D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．腰背疼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．骨质疏松的患者要求饮食含钙丰富，下列哪种符合条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A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．橙、橘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	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     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B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．豆制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C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．腊味食品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D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．罐头食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3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．骨质疏松的适宜步行时间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A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．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5~10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分钟           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B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．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20~30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分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C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．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10~20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分钟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D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．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40~60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分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03F6A-13C8-484C-9E00-E87133DDFD8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Rectangle 4"/>
          <p:cNvSpPr/>
          <p:nvPr/>
        </p:nvSpPr>
        <p:spPr>
          <a:xfrm>
            <a:off x="684360" y="1557360"/>
            <a:ext cx="8064360" cy="37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ts val="3472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识记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472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．列举骨质疏松发病的病因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472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．描述骨质疏松的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472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理解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472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解释骨质疏松的主要功能障碍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472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运用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472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评估骨质疏松后疼痛并为其制订康复护理计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病例分析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女，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7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岁。因“反复腰腿疼痛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40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年，再发加重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5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天”入院。诊断：腰椎间盘突出症、骨质疏松症。患者反复腰腿疼痛，不能行走。到医院经骨密度测定及实验室检查，最后诊断为继发性骨质疏松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请问：该患者目前应采取的康复护理措施是什么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  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骨质疏松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(osteoporosis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，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OP)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是一种以骨量减少和骨强度降低为特征，导致骨质脆性增加和易于骨折的全身性骨代谢性疾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一）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．影响骨吸收的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．影响骨形成的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一）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．影响骨吸收的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(1)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性激素缺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(2)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甲状旁腺素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PTH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(3)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降钙素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(CT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(4)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妊娠和哺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一）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．影响骨形成的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遗传因素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身材、肥瘦、肌肉发达程度和胃肠功能均与遗传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营养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生活方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．骨痛和肌无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．椎体压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．骨折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这是退行性骨质疏松症最常见和最严重的并发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．呼吸功能下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．骨痛和肌无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是原发性骨质疏松症最常见的症状，以腰背痛多见。一般骨量丢失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2%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以上时即可出现骨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赵欣</cp:lastModifiedBy>
  <dcterms:modified xsi:type="dcterms:W3CDTF">2015-12-15T10:42:34Z</dcterms:modified>
  <cp:revision>1</cp:revision>
  <dc:subject/>
  <dc:title>      第九节   其他疾病的康复护理</dc:title>
</cp:coreProperties>
</file>